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png" ContentType="image/png"/>
  <Override PartName="/ppt/media/image4.gif" ContentType="image/gif"/>
  <Override PartName="/ppt/media/image30.wmf" ContentType="image/x-wmf"/>
  <Override PartName="/ppt/media/image34.gif" ContentType="image/gif"/>
  <Override PartName="/ppt/media/image26.png" ContentType="image/png"/>
  <Override PartName="/ppt/media/image3.gif" ContentType="image/gif"/>
  <Override PartName="/ppt/media/image33.gif" ContentType="image/gif"/>
  <Override PartName="/ppt/media/image25.wmf" ContentType="image/x-wmf"/>
  <Override PartName="/ppt/media/image24.wmf" ContentType="image/x-wmf"/>
  <Override PartName="/ppt/media/image23.png" ContentType="image/png"/>
  <Override PartName="/ppt/media/image19.wmf" ContentType="image/x-wmf"/>
  <Override PartName="/ppt/media/image21.wmf" ContentType="image/x-wmf"/>
  <Override PartName="/ppt/media/image18.wmf" ContentType="image/x-wmf"/>
  <Override PartName="/ppt/media/image20.wmf" ContentType="image/x-wmf"/>
  <Override PartName="/ppt/media/image12.gif" ContentType="image/gif"/>
  <Override PartName="/ppt/media/image16.png" ContentType="image/png"/>
  <Override PartName="/ppt/media/image13.gif" ContentType="image/gif"/>
  <Override PartName="/ppt/media/image7.gif" ContentType="image/gif"/>
  <Override PartName="/ppt/media/image37.gif" ContentType="image/gif"/>
  <Override PartName="/ppt/media/image8.gif" ContentType="image/gif"/>
  <Override PartName="/ppt/media/image38.gif" ContentType="image/gif"/>
  <Override PartName="/ppt/media/image9.gif" ContentType="image/gif"/>
  <Override PartName="/ppt/media/image39.png" ContentType="image/png"/>
  <Override PartName="/ppt/media/image40.jpeg" ContentType="image/jpeg"/>
  <Override PartName="/ppt/media/image41.jpeg" ContentType="image/jpeg"/>
  <Override PartName="/ppt/media/image11.gif" ContentType="image/gif"/>
  <Override PartName="/ppt/media/image36.gif" ContentType="image/gif"/>
  <Override PartName="/ppt/media/image6.gif" ContentType="image/gif"/>
  <Override PartName="/ppt/media/image32.wmf" ContentType="image/x-wmf"/>
  <Override PartName="/ppt/media/image10.gif" ContentType="image/gif"/>
  <Override PartName="/ppt/media/image35.gif" ContentType="image/gif"/>
  <Override PartName="/ppt/media/image31.wmf" ContentType="image/x-wmf"/>
  <Override PartName="/ppt/media/image5.gif" ContentType="image/gif"/>
  <Override PartName="/ppt/media/image1.jpeg" ContentType="image/jpeg"/>
  <Override PartName="/ppt/media/image2.gif" ContentType="image/gif"/>
  <Override PartName="/ppt/media/image14.gif" ContentType="image/gif"/>
  <Override PartName="/ppt/media/image15.gif" ContentType="image/gif"/>
  <Override PartName="/ppt/media/image17.gif" ContentType="image/gi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9979025" cy="6832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979200" cy="68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653080" y="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EA92-182A-462F-8DF2-5E9A68AF73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5FB2-1C33-4A61-9A63-2004C47608E0}" type="slidenum">
              <a:rPr b="0" lang="ru-RU" sz="1200" spc="-1" strike="noStrike">
                <a:solidFill>
                  <a:srgbClr val="000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DA62-7743-495E-929F-3C3F114BFCB7}" type="slidenum">
              <a:rPr b="0" lang="ru-RU" sz="1200" spc="-1" strike="noStrike">
                <a:solidFill>
                  <a:srgbClr val="000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D8A-26DD-4F98-97A9-4E7CE1BD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03A-B7D2-4D0F-B1F6-4F2C1DB8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952-8454-4CCB-9769-8DCABA90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AEC-2D5A-4007-92E7-12A55A91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E314-8ACB-4ADD-8E1C-6DC94670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C1E4-395F-46DE-9E17-CCEB2737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E18F-2B5F-4E92-8C71-78C6417F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8FA1-4F69-43A3-9069-49860D37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16D9-CE44-4C54-8BD8-B46E8BE6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040D-2829-41BF-95C5-B849573A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A2AC-4F40-45A2-BA39-A9E1A5DC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7F0-5ABB-4444-8719-2117D9A8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FE2D-0C02-495E-9BF9-6F6AC507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3CDB-15BB-46B5-9D72-8677F0BA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7BF5-8E76-46FA-905E-3F5F8AA0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9EA1-B839-4245-BC46-FA0D4647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60EA-03FC-45A8-8068-94B4FCF7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ABF-4250-4183-885A-7BEB9229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04F-DE22-4025-AB7C-FFE8D8CF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34F-A9D4-4D63-883B-98B327C5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5E2F-B0BE-47F1-927A-E5519A27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66F-AA85-4192-8FB1-D83170AE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CCA4-2F64-4801-A9DB-5D9C3AD1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12C-24D3-4564-9CA1-CA96634A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BD31-ABC0-46EA-8231-2611F83B60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99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9933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AD85-0F68-427B-9D23-2190DD5AFADF}" type="slidenum"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37160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0"/>
                </a:solidFill>
                <a:latin typeface="Arial"/>
              </a:rPr>
              <a:t>«</a:t>
            </a:r>
            <a:r>
              <a:rPr b="0" lang="ru-RU" sz="4000" spc="-1" strike="noStrike">
                <a:solidFill>
                  <a:srgbClr val="000060"/>
                </a:solidFill>
                <a:latin typeface="Comic Sans MS"/>
              </a:rPr>
              <a:t>Предупреждение нарушений в поведении ребенка</a:t>
            </a:r>
            <a:r>
              <a:rPr b="0" lang="ru-RU" sz="4000" spc="-1" strike="noStrike">
                <a:solidFill>
                  <a:srgbClr val="00006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117" name="Picture 4" descr="deva213"/>
          <p:cNvPicPr/>
          <p:nvPr/>
        </p:nvPicPr>
        <p:blipFill>
          <a:blip r:embed="rId1"/>
          <a:stretch/>
        </p:blipFill>
        <p:spPr>
          <a:xfrm>
            <a:off x="541008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deva214"/>
          <p:cNvPicPr/>
          <p:nvPr/>
        </p:nvPicPr>
        <p:blipFill>
          <a:blip r:embed="rId2"/>
          <a:stretch/>
        </p:blipFill>
        <p:spPr>
          <a:xfrm>
            <a:off x="137160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eva216"/>
          <p:cNvPicPr/>
          <p:nvPr/>
        </p:nvPicPr>
        <p:blipFill>
          <a:blip r:embed="rId3"/>
          <a:stretch/>
        </p:blipFill>
        <p:spPr>
          <a:xfrm>
            <a:off x="342900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eva215"/>
          <p:cNvPicPr/>
          <p:nvPr/>
        </p:nvPicPr>
        <p:blipFill>
          <a:blip r:embed="rId4"/>
          <a:stretch/>
        </p:blipFill>
        <p:spPr>
          <a:xfrm>
            <a:off x="7391520" y="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21" name="Скругленный прямоугольник 6">
            <a:hlinkClick r:id="rId5"/>
          </p:cNvPr>
          <p:cNvSpPr/>
          <p:nvPr/>
        </p:nvSpPr>
        <p:spPr>
          <a:xfrm flipV="1">
            <a:off x="7162920" y="685800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80"/>
                </a:solidFill>
                <a:uFillTx/>
                <a:latin typeface="Comic Sans MS"/>
              </a:rPr>
              <a:t>Месть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мстительного поведе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Отражение роста насилия в обществе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Распространение через средства массовой информации стиля «силового» решения конфликта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Обида, боль, опустошение в дополнение к гневу, негодованию и страху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Немедленно ответить силой как равному (подавить),уйти из ситуации (убежать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73" name="Picture 4" descr="pingv04"/>
          <p:cNvPicPr/>
          <p:nvPr/>
        </p:nvPicPr>
        <p:blipFill>
          <a:blip r:embed="rId1"/>
          <a:stretch/>
        </p:blipFill>
        <p:spPr>
          <a:xfrm>
            <a:off x="6705720" y="228600"/>
            <a:ext cx="2076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6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6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7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7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mic Sans MS"/>
              </a:rPr>
              <a:t>Есть ли хорошее в плохом?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1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.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Привлечение внимания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 нуждаются в общении с родителями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2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ласть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 демонстрируют лидерские способности: умение независимо мыслить, способность сопротивляться авторитетам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3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Месть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демонстрируют высокую жизнеспособность, умение защитится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4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Избегание неудач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хотят и могут добиться успеха.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76" name="Picture 10" descr="line92"/>
          <p:cNvPicPr/>
          <p:nvPr/>
        </p:nvPicPr>
        <p:blipFill>
          <a:blip r:embed="rId1"/>
          <a:stretch/>
        </p:blipFill>
        <p:spPr>
          <a:xfrm>
            <a:off x="4114800" y="762120"/>
            <a:ext cx="4838760" cy="333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sw54"/>
          <p:cNvPicPr/>
          <p:nvPr/>
        </p:nvPicPr>
        <p:blipFill>
          <a:blip r:embed="rId2"/>
          <a:stretch/>
        </p:blipFill>
        <p:spPr>
          <a:xfrm>
            <a:off x="7095960" y="5068800"/>
            <a:ext cx="20480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3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0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8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8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0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первый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: 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Установить и поддерживать отношения равенства и взаимного уважения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80" name="Picture 4" descr="MCj04360490000[1]"/>
          <p:cNvPicPr/>
          <p:nvPr/>
        </p:nvPicPr>
        <p:blipFill>
          <a:blip r:embed="rId1"/>
          <a:stretch/>
        </p:blipFill>
        <p:spPr>
          <a:xfrm>
            <a:off x="1066680" y="3505320"/>
            <a:ext cx="2210040" cy="217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Cj04360450000[1]"/>
          <p:cNvPicPr/>
          <p:nvPr/>
        </p:nvPicPr>
        <p:blipFill>
          <a:blip r:embed="rId2"/>
          <a:stretch/>
        </p:blipFill>
        <p:spPr>
          <a:xfrm>
            <a:off x="6781680" y="3429000"/>
            <a:ext cx="215748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MCj04244660000[1]"/>
          <p:cNvPicPr/>
          <p:nvPr/>
        </p:nvPicPr>
        <p:blipFill>
          <a:blip r:embed="rId3"/>
          <a:stretch/>
        </p:blipFill>
        <p:spPr>
          <a:xfrm>
            <a:off x="4038480" y="4114800"/>
            <a:ext cx="19749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0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второ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нять причину поведения ребенка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85" name="Picture 5" descr="MCj04357430000[1]"/>
          <p:cNvPicPr/>
          <p:nvPr/>
        </p:nvPicPr>
        <p:blipFill>
          <a:blip r:embed="rId1"/>
          <a:stretch/>
        </p:blipFill>
        <p:spPr>
          <a:xfrm>
            <a:off x="7467480" y="3276720"/>
            <a:ext cx="1274760" cy="2971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boys11"/>
          <p:cNvPicPr/>
          <p:nvPr/>
        </p:nvPicPr>
        <p:blipFill>
          <a:blip r:embed="rId2"/>
          <a:stretch/>
        </p:blipFill>
        <p:spPr>
          <a:xfrm>
            <a:off x="1523880" y="3505320"/>
            <a:ext cx="146700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MCj04338180000[1]"/>
          <p:cNvPicPr/>
          <p:nvPr/>
        </p:nvPicPr>
        <p:blipFill>
          <a:blip r:embed="rId3"/>
          <a:stretch/>
        </p:blipFill>
        <p:spPr>
          <a:xfrm>
            <a:off x="3962520" y="3886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28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трети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мочь ребенку определить и осознать причину нежелательного поведения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ОСУЖДАЮЩИМ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образом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90" name="Picture 4" descr="MCj03973620000[1]"/>
          <p:cNvPicPr/>
          <p:nvPr/>
        </p:nvPicPr>
        <p:blipFill>
          <a:blip r:embed="rId1"/>
          <a:stretch/>
        </p:blipFill>
        <p:spPr>
          <a:xfrm>
            <a:off x="6781680" y="4572000"/>
            <a:ext cx="2362320" cy="1700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MCj04303700000[1]"/>
          <p:cNvPicPr/>
          <p:nvPr/>
        </p:nvPicPr>
        <p:blipFill>
          <a:blip r:embed="rId2"/>
          <a:stretch/>
        </p:blipFill>
        <p:spPr>
          <a:xfrm>
            <a:off x="914400" y="4267080"/>
            <a:ext cx="2057400" cy="1978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MCj04338160000[1]"/>
          <p:cNvPicPr/>
          <p:nvPr/>
        </p:nvPicPr>
        <p:blipFill>
          <a:blip r:embed="rId3"/>
          <a:stretch/>
        </p:blipFill>
        <p:spPr>
          <a:xfrm>
            <a:off x="396252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четверты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едупреждать возникновение проблемных ситуаций, установив доверительные отношения с ребенком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95" name="Picture 4" descr="MCj04338230000[1]"/>
          <p:cNvPicPr/>
          <p:nvPr/>
        </p:nvPicPr>
        <p:blipFill>
          <a:blip r:embed="rId1"/>
          <a:stretch/>
        </p:blipFill>
        <p:spPr>
          <a:xfrm>
            <a:off x="41148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MCj04344530000[1]"/>
          <p:cNvPicPr/>
          <p:nvPr/>
        </p:nvPicPr>
        <p:blipFill>
          <a:blip r:embed="rId2"/>
          <a:stretch/>
        </p:blipFill>
        <p:spPr>
          <a:xfrm>
            <a:off x="914400" y="4191120"/>
            <a:ext cx="2590920" cy="1666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MCj04344550000[1]"/>
          <p:cNvPicPr/>
          <p:nvPr/>
        </p:nvPicPr>
        <p:blipFill>
          <a:blip r:embed="rId3"/>
          <a:stretch/>
        </p:blipFill>
        <p:spPr>
          <a:xfrm>
            <a:off x="6553080" y="4114800"/>
            <a:ext cx="2133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0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Шаг пятый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Обеспечить ребенку возможность: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могать (понять смысл чувства полезности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Сотрудничать (объяснять, насколько больше 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н сможет сделать, работая вместе с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одителями и братьями, сестрами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лать то, что ему по силам (чтобы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сделать ситуацию более приятной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учить правильно решать проблем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(анализировать поступки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00" name="Picture 4" descr="MCj04244700000[1]"/>
          <p:cNvPicPr/>
          <p:nvPr/>
        </p:nvPicPr>
        <p:blipFill>
          <a:blip r:embed="rId1"/>
          <a:stretch/>
        </p:blipFill>
        <p:spPr>
          <a:xfrm>
            <a:off x="762120" y="274320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MCj04244700000[1]"/>
          <p:cNvPicPr/>
          <p:nvPr/>
        </p:nvPicPr>
        <p:blipFill>
          <a:blip r:embed="rId2"/>
          <a:stretch/>
        </p:blipFill>
        <p:spPr>
          <a:xfrm>
            <a:off x="1219320" y="335268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MCj04244700000[1]"/>
          <p:cNvPicPr/>
          <p:nvPr/>
        </p:nvPicPr>
        <p:blipFill>
          <a:blip r:embed="rId3"/>
          <a:stretch/>
        </p:blipFill>
        <p:spPr>
          <a:xfrm>
            <a:off x="914400" y="4572000"/>
            <a:ext cx="533520" cy="500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MCj04244700000[1]"/>
          <p:cNvPicPr/>
          <p:nvPr/>
        </p:nvPicPr>
        <p:blipFill>
          <a:blip r:embed="rId4"/>
          <a:stretch/>
        </p:blipFill>
        <p:spPr>
          <a:xfrm>
            <a:off x="2362320" y="548640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MCj04283210000[1]"/>
          <p:cNvPicPr/>
          <p:nvPr/>
        </p:nvPicPr>
        <p:blipFill>
          <a:blip r:embed="rId5"/>
          <a:stretch/>
        </p:blipFill>
        <p:spPr>
          <a:xfrm>
            <a:off x="7315200" y="914400"/>
            <a:ext cx="1600200" cy="1300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MCj03975980000[1]"/>
          <p:cNvPicPr/>
          <p:nvPr/>
        </p:nvPicPr>
        <p:blipFill>
          <a:blip r:embed="rId6"/>
          <a:stretch/>
        </p:blipFill>
        <p:spPr>
          <a:xfrm>
            <a:off x="762120" y="762120"/>
            <a:ext cx="14475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Comic Sans MS"/>
              </a:rPr>
              <a:t>Что же делать, для предупреждения нарушений в поведении ребенка?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207" name="Picture 8" descr="elf121"/>
          <p:cNvPicPr/>
          <p:nvPr/>
        </p:nvPicPr>
        <p:blipFill>
          <a:blip r:embed="rId1"/>
          <a:stretch/>
        </p:blipFill>
        <p:spPr>
          <a:xfrm>
            <a:off x="533520" y="228600"/>
            <a:ext cx="2133360" cy="1962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elf123"/>
          <p:cNvPicPr/>
          <p:nvPr/>
        </p:nvPicPr>
        <p:blipFill>
          <a:blip r:embed="rId2"/>
          <a:stretch/>
        </p:blipFill>
        <p:spPr>
          <a:xfrm>
            <a:off x="6912000" y="4038480"/>
            <a:ext cx="1536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авильно проявлять внимание к ребенку!</a:t>
            </a:r>
            <a:br>
              <a:rPr sz="3200"/>
            </a:b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«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се дети жаждут внимания!»</a:t>
            </a:r>
            <a:r>
              <a:rPr b="0" lang="ru-RU" sz="40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нимание за хорошие дела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бъятия, улыбки, интерес и похвала являются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ознаграждением и, следовательно, сильным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будительным мотивом вести себя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"хорошо"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нимание, которое следует за нежелательным поведением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еприятные слова или нахмуренные брови и резко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брошенное: "Прекрати!" с точки зрения ребенка – это тоже 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проявление вним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11" name="Picture 4" descr="homa84"/>
          <p:cNvPicPr/>
          <p:nvPr/>
        </p:nvPicPr>
        <p:blipFill>
          <a:blip r:embed="rId1"/>
          <a:stretch/>
        </p:blipFill>
        <p:spPr>
          <a:xfrm>
            <a:off x="914400" y="750960"/>
            <a:ext cx="182880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0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авильно проявлять внимание к ребенку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3962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Повышенное внимание (сверозабоченность)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Ты должен чистить зубы или у тебя будут дырки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, чтобы ты смотрел телевизор весь вечер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Перестань драться сию же минуту! 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Ты должен ходить в школу или ты не сможешь получить хорошей работы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Ешь, что я приготовила, тебе эта еда полезна"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52880" y="761760"/>
            <a:ext cx="41911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Переделано к модели 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уважения: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беспокоюсь, что придеться идти к зубному врачу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После 9 часов вечера комната мне нужна самому"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 рисковать твоим здоровьем, позволяя тебе драться»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Когда ты так много пропускаешь в школе, учителя звонят мне. Я не знаю, что им говорить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 всем готовить разную еду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0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20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Изменить нежелательное поведение ребёнка - задача очень непростая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амного проще вовремя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            предупредить нарушения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Для этого необходимо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оанализировать и понять,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что для Вас является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нарушением поведения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24" name="Picture 6" descr="lines16"/>
          <p:cNvPicPr/>
          <p:nvPr/>
        </p:nvPicPr>
        <p:blipFill>
          <a:blip r:embed="rId1"/>
          <a:stretch/>
        </p:blipFill>
        <p:spPr>
          <a:xfrm>
            <a:off x="4648320" y="1447920"/>
            <a:ext cx="3809880" cy="21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ines16"/>
          <p:cNvPicPr/>
          <p:nvPr/>
        </p:nvPicPr>
        <p:blipFill>
          <a:blip r:embed="rId2"/>
          <a:stretch/>
        </p:blipFill>
        <p:spPr>
          <a:xfrm>
            <a:off x="762120" y="1447920"/>
            <a:ext cx="3809880" cy="21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people072"/>
          <p:cNvPicPr/>
          <p:nvPr/>
        </p:nvPicPr>
        <p:blipFill>
          <a:blip r:embed="rId3"/>
          <a:stretch/>
        </p:blipFill>
        <p:spPr>
          <a:xfrm>
            <a:off x="1066680" y="4838760"/>
            <a:ext cx="2133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Следить за своими словами и действиями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«Чем меньше мы знаем, что делать, тем больше мы знаем, что должны делать другие!»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икто не хочет, чтобы им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понукали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обходимо действовать и говорить другим, что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МЫ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собираемся делать, а не что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должны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делать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ОНИ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17" name="Picture 5" descr="lines8"/>
          <p:cNvPicPr/>
          <p:nvPr/>
        </p:nvPicPr>
        <p:blipFill>
          <a:blip r:embed="rId1"/>
          <a:stretch/>
        </p:blipFill>
        <p:spPr>
          <a:xfrm>
            <a:off x="1600200" y="2819520"/>
            <a:ext cx="69343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0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4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4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Несколько лишних, но отнюдь не ненужных слов!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31244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        </a:t>
            </a: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Указ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ерестань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оторопись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("Одевайся!"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Чисти зубы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окорми собаку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Убирайся отсюда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733920" y="114264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Предложе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Не мог бы ты играть не так шумно или пойти играть в 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своей комнате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Хотел бы ты одеваться здесь или в машине (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на площадке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)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Что ты предпочитаешь: чистить зубы или не есть сладкого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Хочешь покормить собаку или вынести мусор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Не хочешь ли ты покинуть комнату или ты предпочитаешь, чтобы я тебя вытащил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nodeType="clickEffect" fill="hold">
                      <p:stCondLst>
                        <p:cond delay="0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«НЕТ», не «НЕ-Е-ЕТ!!!»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609480"/>
            <a:ext cx="830556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«Говорить «нет» и отстаивать свое мнение необходимо!»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«НЕТ» не должно быть наказанием, оно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олжно быть осознаваемым для ребенка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чему «НЕТ», объясните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Чем старше ребенок, тем труднее говорить «НЕТ»,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а уж объяснить почему, вообще кошмар! (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Ты же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уже взрослый, сам не понимаешь, почему?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дходите к ответам на вопросы с детской стороны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omic Sans MS"/>
              </a:rPr>
              <a:t>Они,  может быть, и правда не понимают</a:t>
            </a:r>
            <a:r>
              <a:rPr b="1" lang="ru-RU" sz="3200" spc="-1" strike="noStrike">
                <a:solidFill>
                  <a:srgbClr val="000080"/>
                </a:solidFill>
                <a:latin typeface="Comic Sans MS"/>
              </a:rPr>
              <a:t>!!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3" name="Picture 5" descr="homa18"/>
          <p:cNvPicPr/>
          <p:nvPr/>
        </p:nvPicPr>
        <p:blipFill>
          <a:blip r:embed="rId1"/>
          <a:stretch/>
        </p:blipFill>
        <p:spPr>
          <a:xfrm>
            <a:off x="380880" y="762120"/>
            <a:ext cx="1524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0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3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3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Попробуйте заменить слово «НЕТ»</a:t>
            </a:r>
            <a:br>
              <a:rPr sz="3600"/>
            </a:b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 сейчас, потому, что…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Я подумаю, и тогда…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Как ты думаешь, разумно ли это…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6" name="Picture 4" descr="ribka22"/>
          <p:cNvPicPr/>
          <p:nvPr/>
        </p:nvPicPr>
        <p:blipFill>
          <a:blip r:embed="rId1"/>
          <a:stretch/>
        </p:blipFill>
        <p:spPr>
          <a:xfrm>
            <a:off x="8001000" y="1905120"/>
            <a:ext cx="85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nodeType="clickEffect" fill="hold">
                      <p:stCondLst>
                        <p:cond delay="0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Решать только одну проблему за раз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«Не старайтесь поймать ребенка на проступках и складывать все в один тазик!!!»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Может быть, проблема вытекает одна из другой, а может, они не связаны и ребенку от непонимания только хуже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пробуйте сосредоточиться на чем-то одном!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9" name="Picture 7" descr="мальчик с вопосом"/>
          <p:cNvPicPr/>
          <p:nvPr/>
        </p:nvPicPr>
        <p:blipFill>
          <a:blip r:embed="rId1"/>
          <a:stretch/>
        </p:blipFill>
        <p:spPr>
          <a:xfrm>
            <a:off x="3733920" y="1828800"/>
            <a:ext cx="22096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nodeType="clickEffect" fill="hold">
                      <p:stCondLst>
                        <p:cond delay="0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3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могайте ему анализировать ситуацию, чтобы не совершать подобные проступки!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«2» по поведению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: </a:t>
            </a:r>
            <a:br>
              <a:rPr sz="2400"/>
            </a:b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2640" y="1506240"/>
            <a:ext cx="3505320" cy="51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Как над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чему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 чем причина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ты поступил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надо было поступить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поступил взрослый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а как он, на твой взгляд, должен был поступить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600" y="137160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Как делаем м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я так и знала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аешься дурью, уроки не учишь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ещи не убираешь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только хулиганить можешь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облема не выделена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растерян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За что ему оправдываться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33" name="Picture 6" descr="tani07"/>
          <p:cNvPicPr/>
          <p:nvPr/>
        </p:nvPicPr>
        <p:blipFill>
          <a:blip r:embed="rId1"/>
          <a:stretch/>
        </p:blipFill>
        <p:spPr>
          <a:xfrm>
            <a:off x="304920" y="114300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deva71"/>
          <p:cNvPicPr/>
          <p:nvPr/>
        </p:nvPicPr>
        <p:blipFill>
          <a:blip r:embed="rId2"/>
          <a:stretch/>
        </p:blipFill>
        <p:spPr>
          <a:xfrm>
            <a:off x="8077320" y="320040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0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3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6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9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2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rakon007"/>
          <p:cNvPicPr/>
          <p:nvPr/>
        </p:nvPicPr>
        <p:blipFill>
          <a:blip r:embed="rId1"/>
          <a:stretch/>
        </p:blipFill>
        <p:spPr>
          <a:xfrm>
            <a:off x="914400" y="4724280"/>
            <a:ext cx="12906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3d28"/>
          <p:cNvPicPr/>
          <p:nvPr/>
        </p:nvPicPr>
        <p:blipFill>
          <a:blip r:embed="rId2"/>
          <a:stretch/>
        </p:blipFill>
        <p:spPr>
          <a:xfrm>
            <a:off x="7862760" y="3276720"/>
            <a:ext cx="128124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3d32"/>
          <p:cNvPicPr/>
          <p:nvPr/>
        </p:nvPicPr>
        <p:blipFill>
          <a:blip r:embed="rId3"/>
          <a:stretch/>
        </p:blipFill>
        <p:spPr>
          <a:xfrm>
            <a:off x="914400" y="685800"/>
            <a:ext cx="1371600" cy="1139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Три основных закона, которым подчинено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поведение ребенка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1-й закон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–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выбирают определенное поведение в определенных обстоятельствах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2-й закон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– любое поведение ребенка подчинено цели – чувствовать себя принадлежащим к жизни семьи, «чувствовать свою важность и значимость»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       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3-й закон –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рушая дисциплину, ребенок 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сознает, что ведет себя не правильно, но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ожет не осознавать, что за этим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рушениям    стоит определенная цель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или     причина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73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53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93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режде всего нам необходимо дать точное определение поведению, которое, на Ваш взгляд, является нежелательным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Это может оказаться не так легко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Бывают очевидные проблемы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дерется, грубит, убегает….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добные формы поведения проявляются ярко и их  легко отнести к категории нежелательных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Однако бывают и менее явные проблемы: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может плакать, отказываться выполнять инструкции или просто не реагировать на Вас… Давайте посмотрим, как мы понимаем 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«</a:t>
            </a:r>
            <a:r>
              <a:rPr b="1" lang="ru-RU" sz="2800" spc="-1" strike="noStrike">
                <a:solidFill>
                  <a:srgbClr val="000080"/>
                </a:solidFill>
                <a:latin typeface="Comic Sans MS"/>
              </a:rPr>
              <a:t>нежелательное поведение»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34" name="Picture 7" descr="ar3"/>
          <p:cNvPicPr/>
          <p:nvPr/>
        </p:nvPicPr>
        <p:blipFill>
          <a:blip r:embed="rId1"/>
          <a:stretch/>
        </p:blipFill>
        <p:spPr>
          <a:xfrm rot="2935800">
            <a:off x="6276600" y="1876320"/>
            <a:ext cx="62856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ar3"/>
          <p:cNvPicPr/>
          <p:nvPr/>
        </p:nvPicPr>
        <p:blipFill>
          <a:blip r:embed="rId2"/>
          <a:stretch/>
        </p:blipFill>
        <p:spPr>
          <a:xfrm rot="2935800">
            <a:off x="7648200" y="4314600"/>
            <a:ext cx="62856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ar3"/>
          <p:cNvPicPr/>
          <p:nvPr/>
        </p:nvPicPr>
        <p:blipFill>
          <a:blip r:embed="rId3"/>
          <a:stretch/>
        </p:blipFill>
        <p:spPr>
          <a:xfrm>
            <a:off x="7696080" y="6172200"/>
            <a:ext cx="62892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ar3"/>
          <p:cNvPicPr/>
          <p:nvPr/>
        </p:nvPicPr>
        <p:blipFill>
          <a:blip r:embed="rId4"/>
          <a:stretch/>
        </p:blipFill>
        <p:spPr>
          <a:xfrm>
            <a:off x="8515440" y="6172200"/>
            <a:ext cx="628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4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Необходимо выделить задачи для решения проблемы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grpSp>
        <p:nvGrpSpPr>
          <p:cNvPr id="139" name="Organization Chart 3"/>
          <p:cNvGrpSpPr/>
          <p:nvPr/>
        </p:nvGrpSpPr>
        <p:grpSpPr>
          <a:xfrm>
            <a:off x="380880" y="1542960"/>
            <a:ext cx="8533080" cy="5225400"/>
            <a:chOff x="380880" y="1542960"/>
            <a:chExt cx="8533080" cy="5225400"/>
          </a:xfrm>
        </p:grpSpPr>
        <p:cxnSp>
          <p:nvCxnSpPr>
            <p:cNvPr id="140" name="_s1028"/>
            <p:cNvCxnSpPr>
              <a:stCxn id="141" idx="1"/>
              <a:endCxn id="142" idx="2"/>
            </p:cNvCxnSpPr>
            <p:nvPr/>
          </p:nvCxnSpPr>
          <p:spPr>
            <a:xfrm rot="10800000">
              <a:off x="2940120" y="2288520"/>
              <a:ext cx="853920" cy="410616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3" name="_s1029"/>
            <p:cNvCxnSpPr>
              <a:stCxn id="144" idx="1"/>
              <a:endCxn id="142" idx="2"/>
            </p:cNvCxnSpPr>
            <p:nvPr/>
          </p:nvCxnSpPr>
          <p:spPr>
            <a:xfrm rot="10800000">
              <a:off x="2940120" y="2288520"/>
              <a:ext cx="853920" cy="298692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5" name="_s1030"/>
            <p:cNvCxnSpPr>
              <a:stCxn id="146" idx="1"/>
              <a:endCxn id="142" idx="2"/>
            </p:cNvCxnSpPr>
            <p:nvPr/>
          </p:nvCxnSpPr>
          <p:spPr>
            <a:xfrm rot="10800000">
              <a:off x="2940120" y="2288520"/>
              <a:ext cx="853920" cy="186696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7" name="_s1031"/>
            <p:cNvCxnSpPr>
              <a:stCxn id="148" idx="1"/>
              <a:endCxn id="142" idx="2"/>
            </p:cNvCxnSpPr>
            <p:nvPr/>
          </p:nvCxnSpPr>
          <p:spPr>
            <a:xfrm rot="10800000">
              <a:off x="2940120" y="2288520"/>
              <a:ext cx="853920" cy="74700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sp>
          <p:nvSpPr>
            <p:cNvPr id="142" name="_s1032"/>
            <p:cNvSpPr/>
            <p:nvPr/>
          </p:nvSpPr>
          <p:spPr>
            <a:xfrm>
              <a:off x="380880" y="154296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Comic Sans MS"/>
                </a:rPr>
                <a:t>Основные задачи</a:t>
              </a:r>
              <a:endParaRPr b="0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8" name="_s1033"/>
            <p:cNvSpPr/>
            <p:nvPr/>
          </p:nvSpPr>
          <p:spPr>
            <a:xfrm>
              <a:off x="3794040" y="266256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Объективно описать поведения ребенка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6" name="_s1034"/>
            <p:cNvSpPr/>
            <p:nvPr/>
          </p:nvSpPr>
          <p:spPr>
            <a:xfrm>
              <a:off x="3794040" y="378252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Понять мотив «плохого» поведения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4" name="_s1035"/>
            <p:cNvSpPr/>
            <p:nvPr/>
          </p:nvSpPr>
          <p:spPr>
            <a:xfrm>
              <a:off x="3794040" y="490212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Выбрать технику(</a:t>
              </a:r>
              <a:r>
                <a:rPr b="1" lang="en-US" sz="1600" spc="-1" strike="noStrike">
                  <a:solidFill>
                    <a:srgbClr val="000080"/>
                  </a:solidFill>
                  <a:latin typeface="Comic Sans MS"/>
                </a:rPr>
                <a:t>для прекращения выходки)</a:t>
              </a:r>
              <a:endParaRPr b="0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1" name="_s1036"/>
            <p:cNvSpPr/>
            <p:nvPr/>
          </p:nvSpPr>
          <p:spPr>
            <a:xfrm>
              <a:off x="3794040" y="602208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Разработать стратегию и тактику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pic>
          <p:nvPicPr>
            <p:cNvPr id="149" name="Picture 19" descr=""/>
            <p:cNvPicPr/>
            <p:nvPr/>
          </p:nvPicPr>
          <p:blipFill>
            <a:blip r:embed="rId1"/>
            <a:stretch/>
          </p:blipFill>
          <p:spPr>
            <a:xfrm>
              <a:off x="1749960" y="2589840"/>
              <a:ext cx="75780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0" descr=""/>
            <p:cNvPicPr/>
            <p:nvPr/>
          </p:nvPicPr>
          <p:blipFill>
            <a:blip r:embed="rId2"/>
            <a:stretch/>
          </p:blipFill>
          <p:spPr>
            <a:xfrm>
              <a:off x="1749960" y="3504960"/>
              <a:ext cx="7750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1" descr=""/>
            <p:cNvPicPr/>
            <p:nvPr/>
          </p:nvPicPr>
          <p:blipFill>
            <a:blip r:embed="rId3"/>
            <a:stretch/>
          </p:blipFill>
          <p:spPr>
            <a:xfrm>
              <a:off x="1749960" y="4419720"/>
              <a:ext cx="7750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2" descr=""/>
            <p:cNvPicPr/>
            <p:nvPr/>
          </p:nvPicPr>
          <p:blipFill>
            <a:blip r:embed="rId4"/>
            <a:stretch/>
          </p:blipFill>
          <p:spPr>
            <a:xfrm>
              <a:off x="1749960" y="5485320"/>
              <a:ext cx="781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80"/>
                </a:solidFill>
                <a:latin typeface="Comic Sans MS"/>
              </a:rPr>
              <a:t>Причины нарушения поведения</a:t>
            </a:r>
            <a:endParaRPr b="0" lang="en-US" sz="4200" spc="-1" strike="noStrike">
              <a:solidFill>
                <a:srgbClr val="3366cc"/>
              </a:solidFill>
              <a:latin typeface="Arial Black"/>
            </a:endParaRPr>
          </a:p>
        </p:txBody>
      </p:sp>
      <p:grpSp>
        <p:nvGrpSpPr>
          <p:cNvPr id="154" name="Diagram 3"/>
          <p:cNvGrpSpPr/>
          <p:nvPr/>
        </p:nvGrpSpPr>
        <p:grpSpPr>
          <a:xfrm>
            <a:off x="838080" y="1752480"/>
            <a:ext cx="7872480" cy="4191120"/>
            <a:chOff x="838080" y="1752480"/>
            <a:chExt cx="7872480" cy="4191120"/>
          </a:xfrm>
        </p:grpSpPr>
        <p:sp>
          <p:nvSpPr>
            <p:cNvPr id="155" name="_s2052"/>
            <p:cNvSpPr/>
            <p:nvPr/>
          </p:nvSpPr>
          <p:spPr>
            <a:xfrm>
              <a:off x="3957480" y="2381400"/>
              <a:ext cx="1686240" cy="168588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w="46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6" name="_s2053"/>
            <p:cNvSpPr/>
            <p:nvPr/>
          </p:nvSpPr>
          <p:spPr>
            <a:xfrm>
              <a:off x="3048120" y="1752480"/>
              <a:ext cx="3962160" cy="493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Привлечение внимания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7" name="_s2054"/>
            <p:cNvSpPr/>
            <p:nvPr/>
          </p:nvSpPr>
          <p:spPr>
            <a:xfrm>
              <a:off x="4599000" y="3022560"/>
              <a:ext cx="1685880" cy="1685880"/>
            </a:xfrm>
            <a:prstGeom prst="ellipse">
              <a:avLst/>
            </a:prstGeom>
            <a:solidFill>
              <a:srgbClr val="9933ff">
                <a:alpha val="50000"/>
              </a:srgbClr>
            </a:solidFill>
            <a:ln w="468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8" name="_s2055"/>
            <p:cNvSpPr/>
            <p:nvPr/>
          </p:nvSpPr>
          <p:spPr>
            <a:xfrm>
              <a:off x="6477120" y="3657600"/>
              <a:ext cx="223344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Власть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9" name="_s2056"/>
            <p:cNvSpPr/>
            <p:nvPr/>
          </p:nvSpPr>
          <p:spPr>
            <a:xfrm>
              <a:off x="3957480" y="3664080"/>
              <a:ext cx="1686240" cy="168588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0" name="_s2057"/>
            <p:cNvSpPr/>
            <p:nvPr/>
          </p:nvSpPr>
          <p:spPr>
            <a:xfrm>
              <a:off x="3124080" y="5562720"/>
              <a:ext cx="3810240" cy="380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Избегание неудач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1" name="_s2058"/>
            <p:cNvSpPr/>
            <p:nvPr/>
          </p:nvSpPr>
          <p:spPr>
            <a:xfrm>
              <a:off x="3316320" y="3022560"/>
              <a:ext cx="1685880" cy="1685880"/>
            </a:xfrm>
            <a:prstGeom prst="ellipse">
              <a:avLst/>
            </a:prstGeom>
            <a:solidFill>
              <a:srgbClr val="7a7c93">
                <a:alpha val="50000"/>
              </a:srgbClr>
            </a:solidFill>
            <a:ln w="4680">
              <a:solidFill>
                <a:srgbClr val="7a7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2" name="_s2059"/>
            <p:cNvSpPr/>
            <p:nvPr/>
          </p:nvSpPr>
          <p:spPr>
            <a:xfrm>
              <a:off x="838080" y="3657600"/>
              <a:ext cx="2309760" cy="5349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Месть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Привлечение внимания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поведения, направленного на привлечения внимания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одители и учителя больше внимания уделяют детям, которые ведут себя плохо, а не хорошо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не научены просить внимания в приемлемой форме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часто испытывают дефицит личного внимания к себе, чувствуют себя «пустым местом»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Реакция взрослого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раздражение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возмущение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словесные замеч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угроз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5" name="Picture 4" descr="an21"/>
          <p:cNvPicPr/>
          <p:nvPr/>
        </p:nvPicPr>
        <p:blipFill>
          <a:blip r:embed="rId1"/>
          <a:stretch/>
        </p:blipFill>
        <p:spPr>
          <a:xfrm>
            <a:off x="1523880" y="4952880"/>
            <a:ext cx="1371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2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90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2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3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1900"/>
                            </p:stCondLst>
                            <p:childTnLst>
                              <p:par>
                                <p:cTn id="3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4900"/>
                            </p:stCondLst>
                            <p:childTnLst>
                              <p:par>
                                <p:cTn id="3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Власть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Природа данного поведения</a:t>
            </a:r>
            <a:r>
              <a:rPr b="0" lang="ru-RU" sz="2800" spc="-1" strike="noStrike" u="sng">
                <a:solidFill>
                  <a:srgbClr val="61636b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ода на «сильную личность» учит утверждению своей силы, а не конструктивному подчинению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сутствие в нашем обществе установки «Кто имеет власть, тот имеет все!»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Гнев, негодование, страх ( не справиться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емедленно прекратить выходку с помощью физического воздействия (встряхнуть, ударить…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8" name="Picture 5" descr="an99"/>
          <p:cNvPicPr/>
          <p:nvPr/>
        </p:nvPicPr>
        <p:blipFill>
          <a:blip r:embed="rId1"/>
          <a:stretch/>
        </p:blipFill>
        <p:spPr>
          <a:xfrm>
            <a:off x="838080" y="304920"/>
            <a:ext cx="19814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Избегание неудач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поведения, направленного на избегание неудач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Отношение у ребенка к заданиям и просьбам изначально предвзятое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Необоснованные ожидания родителей и учителей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Вера ребенка, что ему подходит быть  только самым-самым!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Упор на соревнования, сравнения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Чувство беспомощности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Хочется оправдаться и объяснить поведение ребенка (иногда с помощью специалиста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5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5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5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5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5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6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tter</dc:creator>
  <dc:description/>
  <dc:language>en-US</dc:language>
  <cp:lastModifiedBy>Otter</cp:lastModifiedBy>
  <dcterms:modified xsi:type="dcterms:W3CDTF">2022-02-02T06:38:0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